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2DDC-9D17-4E8C-BEAD-FAA5AD52F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A562-DBA7-4873-8B5E-7F9F80BA0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9C5-FD0F-45CB-9518-48DB7879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A71-DA03-48EC-B413-73816017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AB3-FEB3-4C79-AE56-8FB9BAB7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328-1AB2-4424-BCC5-0F9E0C13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DF8-4416-4633-8BBA-59B09EE7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748-21AD-4D2C-95A6-9A7704FA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F6F-AF63-483C-A101-6131B55C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1C8-EAC8-4E6C-9BE2-FA7714F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BD1-CA2C-43C1-AEB2-A9E99BCE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858-5148-419D-90E5-B4CAC9B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CDC-E04A-4246-BEB3-ED8B016E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AAE-6AC9-4277-9D49-870D7C1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002D-B860-450A-ABFA-81B27AB7D1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13A8-4919-4BAC-A242-A08622FAE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50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еспечение информационной безопасности дет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484360" y="3537000"/>
            <a:ext cx="475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85676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ые сет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Быть или не быть, вот в чем вопрос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ижний колонтитул 1"/>
          <p:cNvSpPr/>
          <p:nvPr/>
        </p:nvSpPr>
        <p:spPr>
          <a:xfrm>
            <a:off x="3124080" y="6237360"/>
            <a:ext cx="289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240000" y="1765440"/>
            <a:ext cx="226872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ьза и вред социальных с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доступна, указанная информац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2855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Размещая информацию на персональной странице, в том числе, свои персональные данные, Пользователь осознает и соглашается с тем, что указанная информация может быть доступна другим пользователям сети Интернет» 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6.jpg"/>
          <p:cNvPicPr/>
          <p:nvPr/>
        </p:nvPicPr>
        <p:blipFill>
          <a:blip r:embed="rId1"/>
          <a:stretch/>
        </p:blipFill>
        <p:spPr>
          <a:xfrm>
            <a:off x="324000" y="3357720"/>
            <a:ext cx="4752720" cy="2592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5651640" y="31068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Выдержка из Правил «ВКонтакте», которые почти никто не читает при регистраци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ональные данные - вся информация, указанная Вами при регистрации и в дальнейшем размещаемая на страниц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4240" y="2214360"/>
            <a:ext cx="4786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мер телеф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, класс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едения о предпочтениях (группы, посты 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еопози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55520" y="-449568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07800" y="-434340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226224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07800" y="-210996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460440" y="-195732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155520" y="-2316240"/>
            <a:ext cx="6667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"/>
          <p:cNvPicPr/>
          <p:nvPr/>
        </p:nvPicPr>
        <p:blipFill>
          <a:blip r:embed="rId1"/>
          <a:stretch/>
        </p:blipFill>
        <p:spPr>
          <a:xfrm>
            <a:off x="4819680" y="2556000"/>
            <a:ext cx="4006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ки размещения информации в се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32000" y="1268280"/>
            <a:ext cx="720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я может попасть в руки злоумышленника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ение (размещенный Вами пост сегодня, через несколько лет может вызвать у Вас чувства стыда и неуместно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ственность (общаясь в соц.сетях можно оскорбить человека, за что предусмотрена ответственность - статья 5.61 КоАП Р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родител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Вашем будущем (учеба, работа…). Интернет «помнит всё»!!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иртуальная реа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!!!! Второе слово точно отражает суть дел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ё, что происходит в Сети, реально, и опасности там тоже реаль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2865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общаться в С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95580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Не выкладывайте личную информацию (совместные фотографии, видео, иные данные) о ваших друзьях в Интернет без их разреш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е отправляйте свои персональные данные, а также свои видео и фото людям, с которыми вы познакомились в Интернете, тем более если вы не знаете их в реальной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ри общении с другими пользователями старайтесь быть вежливыми, деликатными, тактичными и дружелюб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тарайтесь не реагировать на обидные комментарии, хамство и грубость други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Если решить проблему мирным путем не удалось, напишите жалобу администратору сайта, потребуйте заблокировать обидч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Если администратор сайта отказался вам помочь, прекратите пользоваться таким ресурсом и удалите оттуда свои дан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Не используйте Сеть для распространения сплетен, угроз или хулиган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е встречайтесь в реальной жизни с онлайн-знакомыми без разрешения родителей или в отсутствие взросл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6021360" y="4508640"/>
            <a:ext cx="2820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8" descr="10.jpg"/>
          <p:cNvPicPr/>
          <p:nvPr/>
        </p:nvPicPr>
        <p:blipFill>
          <a:blip r:embed="rId1"/>
          <a:stretch/>
        </p:blipFill>
        <p:spPr>
          <a:xfrm>
            <a:off x="5003640" y="4076640"/>
            <a:ext cx="3853080" cy="247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опасность Ваших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1196640"/>
            <a:ext cx="85010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акже как и личный дом с вещами и ценностями, надо держать взаперти свой аккаунт с личной информа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и составлении паролей рекомендуется придерживаться следующих правил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ароль должен содержать не менее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шест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 состав пароля могут входить цифры, латинские буквы, пробелы и специальные символы (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.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 и др. 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комендуется составлять пароль из смешанного набора цифровых и буквенных (прописных и строчных) 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е используйте в качестве парол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щеупотребительные слова и устойчивые словосочета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боры символов, представляющие собой комбинации клавиш, расположенных подряд на клавиатуре, такие как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werty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23456789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azxsw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и т. п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ерсональные данные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мена, фамили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дрес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омера паспорт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траховых свидетельств и т.д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портале персональныеданные.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0000" y="2133720"/>
            <a:ext cx="7786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есь Вы найдете различные материалы, которые были разработаны специалистами Роскомнадзора, не только для педагогов и родителей, которые хотят помочь детям понять важность конфиденциальности личной жизни при использовании цифровых технологий, но также для молодых людей, которые с легкостью и энтузиазмом используют среду Интер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тал поможет детям понимать последствия, которые информационные технологии могут оказать на личную жизнь, и предоставить им инструменты и информацию, необходимые для принятия решений в вопросах виртуально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4" descr="http://school55rzn.ucoz.ru/2016/3/banner_pers_dannye.jpg"/>
          <p:cNvPicPr/>
          <p:nvPr/>
        </p:nvPicPr>
        <p:blipFill>
          <a:blip r:embed="rId1"/>
          <a:stretch/>
        </p:blipFill>
        <p:spPr>
          <a:xfrm>
            <a:off x="2008080" y="1341360"/>
            <a:ext cx="460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2486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://socdep.adm44.ru/i/u/61knopka.jpg"/>
          <p:cNvPicPr/>
          <p:nvPr/>
        </p:nvPicPr>
        <p:blipFill>
          <a:blip r:embed="rId1"/>
          <a:stretch/>
        </p:blipFill>
        <p:spPr>
          <a:xfrm>
            <a:off x="1332000" y="2565360"/>
            <a:ext cx="6408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03:37Z</dcterms:created>
  <dc:creator>Shevcov</dc:creator>
  <dc:description/>
  <dc:language>en-US</dc:language>
  <cp:lastModifiedBy>1</cp:lastModifiedBy>
  <dcterms:modified xsi:type="dcterms:W3CDTF">2018-11-14T13:16:54Z</dcterms:modified>
  <cp:revision>41</cp:revision>
  <dc:subject/>
  <dc:title>Безопасность в в сети Интернет</dc:title>
</cp:coreProperties>
</file>